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83DE-E6C9-417A-9141-9B53F19F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06C6-8092-4016-B111-8BA14B14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0F04-F6D5-44DA-A8A5-66FB1565C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52F0-F2FC-46D8-8C4F-69CCAB90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90C9-F15E-4E1A-B5E2-C24614733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08E6-43AF-4356-9A55-CE196680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16AF-AD5C-438C-B33D-7C0F049F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D1D6-BD01-4958-873A-AF87DF74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441C-CA5E-4149-B5F2-F4540F72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0EB9-A990-4B0F-A32C-7F8987E2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C9B7-C4BB-4408-9901-D44EA3F9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1008-D2C7-4C5C-BA42-2C8092F6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847B-2A27-441D-8B3D-68966EFA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D816-6908-49D2-BACC-80FC941B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5252-560C-42CB-9F1D-A3909259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7904-D404-409B-99E7-AC4E42ABB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B05A-A239-44D4-990E-3198DE9A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DB9C-4A2D-44F6-B36A-D0F455F1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1D73-DC51-49FA-8420-1E1939ED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61E1-2161-4FC4-94D5-43E3CA67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DABD-65B3-42C9-8E2F-B12AB51A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813B-6916-4C3D-A3D8-B2960064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8101-A43F-4056-89C0-6D3CDE8C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3DCC-6FAF-4B76-8548-94B1FDCC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EA17-41A8-4816-8EB1-34AAB391C9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2FA9-24C8-4100-9D58-372956EBBB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Gozdovništvo, skavtstvo, taborništvo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87280" y="3860640"/>
            <a:ext cx="1905120" cy="1800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164360" y="3933720"/>
            <a:ext cx="1408320" cy="1727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276720" y="386244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291280" y="393372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0033"/>
                </a:solidFill>
                <a:latin typeface="Times New Roman"/>
              </a:rPr>
              <a:t>USTANOVITEV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2803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1907 - 1. skavtski tabor,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29.07.- 09.0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1908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 - Scouting for Boys - Skavtstvo za fa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60.000 skav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1909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– srečanje v Kristalni palač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Skavtinje – vodnice – gu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1910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 – 100.000 skavtov v Angli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0033"/>
                </a:solidFill>
                <a:latin typeface="Times New Roman"/>
              </a:rPr>
              <a:t>RAZVOJ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353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1912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– Priročnik za vod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Poroka z Olave St. Clair So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1916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 – volčič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1919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 – popotn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- park Gilwell – Wood Ba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1920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 – 1. jambo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1922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 – WO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1928 (1912)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 – WAGG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700680" y="1773360"/>
            <a:ext cx="219240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0033"/>
                </a:solidFill>
                <a:latin typeface="Times New Roman"/>
              </a:rPr>
              <a:t>SKAVTSTVO DANES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353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930920" y="1700280"/>
            <a:ext cx="3673440" cy="3673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898560" y="155736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0033"/>
                </a:solidFill>
                <a:latin typeface="Times New Roman"/>
              </a:rPr>
              <a:t>SKAVTSTVO DANES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353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5229360"/>
            <a:ext cx="8280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300" spc="-1" strike="noStrike">
                <a:solidFill>
                  <a:srgbClr val="000000"/>
                </a:solidFill>
                <a:latin typeface="Arial"/>
              </a:rPr>
              <a:t>WOSM – 155 članic, 28 mio</a:t>
            </a:r>
            <a:br>
              <a:rPr sz="3300"/>
            </a:br>
            <a:r>
              <a:rPr b="1" lang="sl-SI" sz="3300" spc="-1" strike="noStrike">
                <a:solidFill>
                  <a:srgbClr val="000000"/>
                </a:solidFill>
                <a:latin typeface="Arial"/>
              </a:rPr>
              <a:t>World Organisation of the Scout Movement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930920" y="1700280"/>
            <a:ext cx="3673440" cy="3673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98560" y="155736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0033"/>
                </a:solidFill>
                <a:latin typeface="Times New Roman"/>
              </a:rPr>
              <a:t>SKAVTSTVO DANES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353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5302080"/>
            <a:ext cx="828036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300" spc="-1" strike="noStrike">
                <a:solidFill>
                  <a:srgbClr val="000000"/>
                </a:solidFill>
                <a:latin typeface="Arial"/>
              </a:rPr>
              <a:t>WAGGGS – 144 članic, 10 mio</a:t>
            </a:r>
            <a:br>
              <a:rPr sz="3300"/>
            </a:br>
            <a:r>
              <a:rPr b="1" lang="sl-SI" sz="3300" spc="-1" strike="noStrike">
                <a:solidFill>
                  <a:srgbClr val="000000"/>
                </a:solidFill>
                <a:latin typeface="Arial"/>
              </a:rPr>
              <a:t>World Association of Girl Guides and Girl Scouts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930920" y="1700280"/>
            <a:ext cx="3673440" cy="3673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98560" y="155736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0033"/>
                </a:solidFill>
                <a:latin typeface="Times New Roman"/>
              </a:rPr>
              <a:t>SKAVTSTVO DANES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353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5302080"/>
            <a:ext cx="828036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300" spc="-1" strike="noStrike">
                <a:solidFill>
                  <a:srgbClr val="000000"/>
                </a:solidFill>
                <a:latin typeface="Arial"/>
              </a:rPr>
              <a:t>SAGNO – 34 članic </a:t>
            </a:r>
            <a:br>
              <a:rPr sz="3300"/>
            </a:br>
            <a:r>
              <a:rPr b="1" lang="sl-SI" sz="3300" spc="-1" strike="noStrike">
                <a:solidFill>
                  <a:srgbClr val="000000"/>
                </a:solidFill>
                <a:latin typeface="Arial"/>
              </a:rPr>
              <a:t>Scouts And Guides National Organisa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930920" y="1700280"/>
            <a:ext cx="3673440" cy="3673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98560" y="155736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480" y="476280"/>
            <a:ext cx="9137520" cy="5943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4360" y="6093000"/>
            <a:ext cx="82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6 / 5 regij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1, 2, 3, 5, 6 skavtskih org. v</a:t>
            </a:r>
            <a:br>
              <a:rPr sz="4600"/>
            </a:b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eni državi!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2349360"/>
            <a:ext cx="828036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Federacij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WOSM – nacionalna skavtska org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WAGGGS – Organizacija članic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SLO pred 2. sv. vojno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353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1700280"/>
            <a:ext cx="82803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15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vstro-Ogrska, Pavel Kuna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15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1922 - Župa skavtov v Sloveni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15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16 stegov, 1380 čl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1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1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Savez izvidnika i planinki -&gt; Savez skauta Kraljevine Jugoslavi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1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Člani WOSM in WAGG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200" spc="-1" strike="noStrike">
                <a:solidFill>
                  <a:srgbClr val="330033"/>
                </a:solidFill>
                <a:latin typeface="Times New Roman"/>
              </a:rPr>
              <a:t>GOZDOVNIŠTVO</a:t>
            </a:r>
            <a:r>
              <a:rPr b="0" lang="sl-SI" sz="3800" spc="-1" strike="noStrike">
                <a:solidFill>
                  <a:srgbClr val="330033"/>
                </a:solidFill>
                <a:latin typeface="Times New Roman"/>
              </a:rPr>
              <a:t> - w</a:t>
            </a:r>
            <a:r>
              <a:rPr b="0" lang="sl-SI" sz="2800" spc="-1" strike="noStrike">
                <a:solidFill>
                  <a:srgbClr val="330033"/>
                </a:solidFill>
                <a:latin typeface="Times New Roman"/>
              </a:rPr>
              <a:t>oodcraft Indians</a:t>
            </a:r>
            <a:r>
              <a:rPr b="0" lang="sl-SI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280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rnest Thompson Seton, </a:t>
            </a:r>
            <a:br>
              <a:rPr sz="28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860 – 1946, kanadski pisatelj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03880" y="1700280"/>
            <a:ext cx="3444840" cy="4914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165320" y="2421000"/>
            <a:ext cx="340668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SLO pred 2. sv. vojno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353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1916280"/>
            <a:ext cx="828036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5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zdovniki – december 19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15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cej skavtov –&gt; gozdovn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15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viga plamen se iz og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15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veza slovenskih taborni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15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29 - Jugoslovanska gozdovniška li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SLO po 2. sv. vojni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353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4360" y="1916280"/>
            <a:ext cx="8280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22.04.1951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Združenje tabornikov Sloveni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1953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Savez izviđača Jugoslavi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Združitev skavtstva in gozdovništ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Ni bil član WOSM ali WAGG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Tabornik – slovenski prevod SC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SLO po 2. sv. vojni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353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1916280"/>
            <a:ext cx="56880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51 – SZSO –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ovenska zamejska skavtska organiz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516720" y="1700280"/>
            <a:ext cx="2448000" cy="24415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781680" y="4292640"/>
            <a:ext cx="2038320" cy="2398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826920" y="4435560"/>
            <a:ext cx="56883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1.03.1990 – ZSKSS –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druženje slovenskih katoliških skavtinj in skavto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SLO danes – 4 skavtske org.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353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716360" y="4221000"/>
            <a:ext cx="2448000" cy="24418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2038320" cy="2398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050920" y="1700280"/>
            <a:ext cx="2521080" cy="2387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2050920" y="4149720"/>
            <a:ext cx="2521080" cy="2521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39640" y="2276640"/>
            <a:ext cx="2519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1994 -&gt;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WOS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2276640"/>
            <a:ext cx="2519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1996 -&gt;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WAGGG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4437000"/>
            <a:ext cx="2519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2001 -&gt;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ISGF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SKAVT ali TABORNIK?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353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4360" y="1916280"/>
            <a:ext cx="806436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 1990 spet na “novo” beseda skav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razumevanje razl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vadni” ali “katoliški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gativen prizv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šitev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200" spc="-1" strike="noStrike">
                <a:solidFill>
                  <a:srgbClr val="330033"/>
                </a:solidFill>
                <a:latin typeface="Times New Roman"/>
              </a:rPr>
              <a:t>GOZDOVNIŠTVO</a:t>
            </a:r>
            <a:r>
              <a:rPr b="0" lang="sl-SI" sz="3800" spc="-1" strike="noStrike">
                <a:solidFill>
                  <a:srgbClr val="330033"/>
                </a:solidFill>
                <a:latin typeface="Times New Roman"/>
              </a:rPr>
              <a:t> - w</a:t>
            </a:r>
            <a:r>
              <a:rPr b="0" lang="sl-SI" sz="2800" spc="-1" strike="noStrike">
                <a:solidFill>
                  <a:srgbClr val="330033"/>
                </a:solidFill>
                <a:latin typeface="Times New Roman"/>
              </a:rPr>
              <a:t>oodcraft Indians</a:t>
            </a:r>
            <a:r>
              <a:rPr b="0" lang="sl-SI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16131" t="0" r="0" b="0"/>
          <a:stretch/>
        </p:blipFill>
        <p:spPr>
          <a:xfrm>
            <a:off x="971640" y="41400"/>
            <a:ext cx="7777080" cy="67831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000" y="404640"/>
            <a:ext cx="828036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ik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vec, stezosled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avice Indijance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isatelj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00 -&gt; Z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0033"/>
                </a:solidFill>
                <a:latin typeface="Times New Roman"/>
              </a:rPr>
              <a:t>USTANOVITEV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280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1902 -&gt; začetek gozdovniš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Woodcraft – spretnosti življenja v goz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1906 – Birch Bark Roll of the Woodcraft Ind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1910 – Boy Scouts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1915 – Ameriška gozdovniška li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600" spc="-1" strike="noStrike">
                <a:solidFill>
                  <a:srgbClr val="330033"/>
                </a:solidFill>
                <a:latin typeface="Times New Roman"/>
              </a:rPr>
              <a:t>SKAVTSTVO</a:t>
            </a:r>
            <a:r>
              <a:rPr b="0" lang="sl-SI" sz="4200" spc="-1" strike="noStrike">
                <a:solidFill>
                  <a:srgbClr val="330033"/>
                </a:solidFill>
                <a:latin typeface="Times New Roman"/>
              </a:rPr>
              <a:t> – scouting/gui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4535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ord Robert Stephenson Smyth Baden-Powell of Gilwell, </a:t>
            </a:r>
            <a:br>
              <a:rPr sz="28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857 – 1941, britanski gene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676840" y="1700280"/>
            <a:ext cx="3287880" cy="4968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692360" y="3357720"/>
            <a:ext cx="23781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0033"/>
                </a:solidFill>
                <a:latin typeface="Times New Roman"/>
              </a:rPr>
              <a:t>ŽIVLJENJE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280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London, 18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10 otr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Sprejet na vojaško akademi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Ind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1899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Aids to scouting – Napotki za ogledništvo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Bitka za Mafeking, 220 d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Vojaška policija v J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0033"/>
                </a:solidFill>
                <a:latin typeface="Times New Roman"/>
              </a:rPr>
              <a:t>USTANOVITEV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2803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07 - 1. skavtski tabor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9.07.- 09.0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124000" y="115920"/>
            <a:ext cx="51786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08:51:03Z</dcterms:created>
  <dc:creator>Tomi</dc:creator>
  <dc:description/>
  <dc:language>en-US</dc:language>
  <cp:lastModifiedBy>Tomi Tomšič</cp:lastModifiedBy>
  <dcterms:modified xsi:type="dcterms:W3CDTF">2008-08-21T10:46:02Z</dcterms:modified>
  <cp:revision>9</cp:revision>
  <dc:subject/>
  <dc:title>Gozdovništvo, skavtstvo, taborništvo</dc:title>
</cp:coreProperties>
</file>